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5A41-0602-4CB3-9C04-76EDD5B0BF2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8062-C998-4585-89E2-1B654B36E7A3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A9D2-ECC5-430C-BE21-B19E1F17B506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32F2-AF14-428A-80BA-97732299E559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967A-8635-4AE9-B11B-CF9BE955195F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5C7B-13A6-439F-9830-45CB35348453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AB3-1F6C-4064-BB6D-058CEAF9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A11-206F-497E-A093-BF6EFB9F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869-138D-4330-ABA6-8E9CEE5E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9DF-7657-4423-B2D9-D536895F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99A1-1639-402E-8AB6-DE080570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9A52-AF87-4DDA-AEF7-BFAD9C54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D575-B26F-4C4C-A924-D8E96FE2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241A-279A-4D94-B27F-48F7232D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D86B-0C3B-4249-9D9E-C17C1F77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6F34-098A-4006-8D9B-90ADDF6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3B60-C530-4A23-A6DF-26773935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E09-D075-4CCE-AB9A-AED8B776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2B8E-1CCD-414B-AA98-B3CD2DD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EF71-E5F3-4731-8D6C-8CB11DC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D6ED-94AB-4EE0-AB1A-60DF655C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4C68-F201-4508-8176-F811EA09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42C6-1898-4025-8B5B-1419A5C8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0221-41B4-4263-86B9-0EBE40D1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3044-A7B9-40DC-ABF3-C251BE94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C5219-C599-43AF-B183-7819658D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A71F-0470-4B72-86F4-32C94A1F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F3EE3-AB12-4EA0-9045-1AAB565F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D9C-8CD6-4897-BA7B-1DF4057A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D638-2B3A-4025-A932-DED1FA8D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AB89-4336-4645-B385-2A30C07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D1B0-2DC0-498D-8BBA-D6FFBA5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BCB7-32A8-49AE-9CAE-7565B83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1667-E73C-4E70-8E94-DA3428CB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8606-7B83-4628-B8C3-6F8F3A62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D585-D7D3-4782-A29F-02453935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EAD9-89E6-451E-B84D-64F7CD2E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BF15-EBDE-4074-8426-4D7D496F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3016-3D89-4FA4-87B2-4EB55AAE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2E9-E51B-4B72-85C3-6F4B7BC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089A-B3CF-4690-9C64-F3CE4C71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521FE-8EAD-40B1-AFAB-A0DB099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302B-C64E-4831-ADF3-C22B7AF2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8FD5-C2B6-4965-95D6-D08078D3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194C-CFB5-4E54-82F6-C21766B1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C4135-7C57-4B7F-A041-75C7C68F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B93C6-7790-4CDA-B78E-E557B8F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EA21-D991-43CA-9FEC-FBAADB49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3207-E321-4CA0-BDCF-822C8237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F7DC-9139-454C-B5DE-E5E2AD61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039-F7D8-477E-A391-761DB67B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AF147-B869-46CA-A27A-2C831F07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D439B-82C3-4256-98EC-F7FA34A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F0C3-9C55-429D-B7F8-EC06F36B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EFF6-B29F-4AA9-90DB-F52869F6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D437-B425-4590-95B2-4DDECC83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AEEB-48A6-427F-8409-63740309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DE2C-C648-450B-A2CB-C36AFA01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A4371-E702-4F45-891B-6402611B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772EF-421E-451F-96C8-51F45824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50F1-F9F0-4A3A-A349-EEF36FEC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7D3-F95A-4F3E-9EEC-EE8DD8BD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60C4-1746-4AEA-9DA2-B47F2791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3D2D7-E70C-4802-A85A-D2AB398B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DC42-85A3-4DD5-97FB-5159BCC2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5C2A-B11C-4928-9CD5-18B51D6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224B-AE9B-483F-A77E-488E99E4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7EC2-A203-472D-8459-ABDE384D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DEDA-15CC-4050-8BBF-BE1F7258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BC0DB-913E-42F1-80EB-91E1D22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75257-FAA3-4896-BA89-5AD1FB38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108F-0E0D-4113-94B0-DDF1C9DE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D31-C05D-41AF-B62A-211E3D1E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D1C0-7276-4FF8-94E4-BCBF1BEE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B0A9F-43C4-4297-A618-62D7B85A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89C0F-E079-4A47-90D8-51B7A444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E323E-CA51-40B3-B8A5-8A554678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83D28-DB8C-454E-B390-F84FEB99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C9C53-D7D5-444A-915E-1FDE1ED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C9C34-5033-416A-BD31-8EEDB55D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7BFC-5B77-44DE-A5FF-BA4B43E6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78855-F0CD-48C0-9AB7-5209DBF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0B83F-8475-4B94-945A-2285F3DA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207-E2AE-4D82-BEBE-D51B4DB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036C-EB9A-40B2-8885-457FF849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1B0AB-14E0-4A2F-89B5-C9856F1A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83182-3ADA-4C2D-A28A-47E5A0CA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A7CAF-64B5-493F-BE0C-B3C06865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5E7B-8507-4DCB-A7D3-038396D6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C95-69F2-46FE-9170-08DAE50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3688-DFDB-49FB-A3B3-64644BEF71D0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uorakulmio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Suorakulmio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Suorakulmio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Suorakulmio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Suorakulmio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Suorakulmio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Suorakulmio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Suorakulmio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Suorakulmio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A158-A322-4AE0-85B8-690AEF55EF89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uolivapaa piirto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uolivapaa piirto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uolivapaa piirto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uolivapaa piirto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uolivapaa piirto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uolivapaa piirto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uolivapaa piirto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uolivapaa piirto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uolivapaa piirto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uolivapaa piirto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uolivapaa piirto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uolivapaa piirto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uolivapaa piirto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uolivapaa piirto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uolivapaa piirto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Suorakulmio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Suorakulmio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Suorakulmio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Suorakulmio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uorakulmio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Suorakulmio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8B2-A9B8-4FB4-94D7-672A015CD2A7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1A5C-DDF9-46B0-B937-C397F8F325AE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uorakulmio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Suorakulmio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Suorakulmio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Suorakulmio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Suorakulmio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Suorakulmio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Suorakulmio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Suorakulmio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Suorakulmio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Suorakulmio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EA87-FB16-48BC-8F43-27E275E63123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C59F-DA1C-47E8-B4D4-2A945DD24797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Suorakulmio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uora yhdysviiv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Ryhmä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uora yhdysviiva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uora yhdysviiva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uora yhdysviiva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Ryhmä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uora yhdysviiva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uora yhdysviiva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uora yhdysviiva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Ryhmä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uora yhdysviiva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uora yhdysviiva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uora yhdysviiva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F860-90B5-4DE8-A400-12A56B5C89D5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Otsikko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Elimistön puolustusjärjestelmän tärkeimpiä tehtäviä on torjua haitallisten mikrobien hyökkäykset ja pitää normaaliin mikrobistoon kuuluvat mikrobit omilla alueillaa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c1eeff"/>
                </a:solidFill>
                <a:latin typeface="Consolas"/>
              </a:rPr>
              <a:t>Valkosolu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Valkosolut suojaavat elimistöä bakteereita ja viruksia vastaa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Ne lisääntyvät tulehduksen aikan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Kun bakteeri pääsee ihmiskehoon, alkaa se lisääntymään nopeasti. Elimistö havaitsee tämän, ja lähettää paikalle valkosoluj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Valkosolut hävittävät bakteerit. Tällöin syntyy tulehduskohta, joka märkii ja punoitta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Jos valkosolut voittavat taistelun, bakteerit kuolevat ja tulehdus parane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Jos bakteerit voittavat, voivat ne levitä mm. imusolmukkeisiin</a:t>
            </a: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ja aiheuttaa niiden tulehtumista ja kuumetta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c1eeff"/>
                </a:solidFill>
                <a:latin typeface="Consolas"/>
              </a:rPr>
              <a:t>Vastustuskyk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Vastustuskykyyn vaikuttavat monet hyvinvoinnin osatekijät, kuten terveydentila, elämän-tilanteen stressaavuus ja ravitsemus. Liikunta kohentaa yleiskuntoa, ja hyväkuntoisella on yleensä myös hyvä vastustuskyk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Tiettyä mikrobia vastaan valmistettu vasta-aine säilyy elimistössämme jonkin aika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Kun elimistössämme on vasta-ainetta, ei kyseinen mikrobi voi elää meissä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Tällöin olemme vastustuskykyisiä, eli immuuneja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Jos elimistöön tulee jatkossa samoja mikrobeja, muistavat tietyt valkosolut nämä, ja pystyvät valmistamaan nopeasti vasta-ainett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c1eeff"/>
                </a:solidFill>
                <a:latin typeface="Consolas"/>
              </a:rPr>
              <a:t>Rokotu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Vastustuskyky tautia vastaan pystytään hankkimaan myös rokotuksell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Rokottaessa elimistöön pistetään kuolleita tai toimintakyvyttömiä mikrobej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Tällöin vasta-aineita alkaa muodostua, vaikkei taudin syntymisestä ole vaara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Vasta-aine synnyttää kehossamme samanlaisen immuunireaktion, kun kyseessä olisi elävä mikrob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Eri rokotusten antama immuunius kestää eripituisen aja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Jos ihminen on sairaana, ei rokottamisesta ole mitään hyötyä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3:55:53Z</dcterms:created>
  <dc:creator>Ritva Tamminen</dc:creator>
  <dc:description/>
  <dc:language>en-US</dc:language>
  <cp:lastModifiedBy>Ritva Tamminen</cp:lastModifiedBy>
  <dcterms:modified xsi:type="dcterms:W3CDTF">2010-02-07T14:26:16Z</dcterms:modified>
  <cp:revision>3</cp:revision>
  <dc:subject/>
  <dc:title>Elimistön puolustusjärjestelmä</dc:title>
</cp:coreProperties>
</file>